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A8FE4-A285-445E-BF41-7FB08A691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definition of Technology.  Remind them to frame everything in terms of what they want their kids to know and be able to do in the 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88F84-E5ED-45F2-98B3-E7198CD897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ly in. They come from the Teacher Leadership Academy that was done last year. The goal is to incorporate cognitive norms as well as behavior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1420A-71B2-40A5-B9A8-BFAE61CFEA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grant as it was wri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08ED8-09BB-473E-881B-D71E88AD22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ance tickets, formative assessment, take tickets and read at first br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0FC54-5ECB-41E6-B4B8-CA8D3DAF5C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he difference between the agenda and the learning targets &amp; criteria for su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6E6D9-E600-4366-AF2C-1965831BE9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tute for Library and Information Literacy Education supported TRAILS development through IMLS and U.S. Dept. of Education grants. The site contains many resources, including lesson plans and pathfin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FFE75-C875-4628-A255-1442D64CFA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9CF-104C-4985-BAB6-7B05A35F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D01-65E0-416E-94A0-04D97385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ADB-F554-4075-9B7F-8C399EE6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76B-6A91-4C18-864B-31D25E7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B6C-0A20-44E0-B946-043B0FC6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609-3784-442C-BE41-F4C255B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AB51-4002-4725-8433-0EB3215F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C24F-AEE2-4EA3-BE45-5BBB69A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D765-EC5F-44C2-A447-F2A029FE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D59B-8F69-43E1-8848-95584478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01E-3268-4C9A-A43C-A5CAE2A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259-1B95-4940-B0C7-E535717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95C-A73A-46A8-86CD-7FC2565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BBC2-6F8F-4C8F-951B-F8AC553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B57-439A-414D-8E2D-CF12A717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6775-A453-4EDB-AA35-33FBE6A5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7981-286D-4767-A37C-9E2A66E4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0F31-9E73-47EA-9B6D-69D1B440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60E8-670B-48F0-8506-8FB4B60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69E6-09AF-45D4-9C96-EE48A775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1FCF-3025-4A58-BEF9-748FBA0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D3D6-DA2D-43C5-A728-AB6A3C50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ECE-B9BA-4A6A-B3CA-7A87D11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C827-817B-4A7E-8FB1-4F4D84D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EABB-BFB1-41BF-838F-CB006F2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BABB-691A-4E2C-B7AF-D65D7C1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70FF-F619-400C-83A7-CCDA046C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7DD4-51E5-4CC1-89D6-CDC235B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470E-858E-4C19-83BB-A5A4FBB8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AA06-4BD2-4919-A429-9AFD919A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F75E-0313-4CD3-A061-0D8DB3E9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8202-0DF8-4E68-B47B-8E6172F9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D01A-EAD0-4198-8FD4-086EA5D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65A-9A2B-47A6-9156-60FE783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0DA3-8F25-4C0A-97C7-0E0A095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4C50-AAB7-4EE4-B296-E89931B3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6345-7F3E-418A-A020-9A8AEBC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6A9C-0333-4651-B9E8-BE57BB8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2C11-5089-4AB7-973F-1C45A61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75A4-5CD1-4C6E-AD95-BC8719B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EB6F-00B1-46F7-B96C-94EB39F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6108-FD81-4014-806E-38D9C2EB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1358-4701-43A1-86B0-B0826193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5099-B95E-4501-82BE-E0CFBE8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26A-F104-4FB0-9980-2E37379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7206-2B6A-4B37-9DD9-C5043E83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CC0A-FC21-43AF-BD06-97BBDBF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BED6-36DC-4B19-A305-DCDEEB8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886D-6305-48A8-9BAE-5282285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26DB-4121-41EC-8E17-347F2BA1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E070-2D9F-46A7-9521-3DD8658C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C383-5AD3-4E69-B0B8-55A0796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B999-029E-47CB-B5C7-0D4BFAF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1BED-8D74-4614-A85F-24C89F7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3191-7658-486C-82A7-7FE7568C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FED-7166-40FF-A80F-15E5112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4879-3B51-4FC5-9CD3-1FEA4325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AB8E-760E-48B5-A74E-CA4A1756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59D6-91AF-4BD7-9E81-7427BB4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6AF89-36B1-4AE2-A7A3-1F9D5313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5A3A-CF1E-47FB-B28A-59F4335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901F-CC2A-44FF-8ED8-8DF6EEB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611B-8D93-4EFE-AE2A-4D4DBF1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0BB2-B2F4-49C9-B8B8-603DF377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38A13-E6E1-4809-9081-64C084E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D0F8-331E-48DA-98F0-69F7D12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D81-066A-4FD5-9B9F-DC7894E2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FCA0-77F4-4683-A353-A365FC6A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4140-C156-4B0E-9B5A-F5FFECE5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B7EF0-45BE-48E1-A991-D6B036D1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473-BC02-449D-91C0-C0D23258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BE2-5623-4DFB-8351-F438DAD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887D-8A05-4463-BF00-74CD3B4C354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C0142-331B-451A-9634-551412F6FB1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562AC-2BD9-4893-8BC0-79403FAFB3C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7EF4F-680F-48F3-8EF6-79AF56E8E24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11D54-C2B2-4CB4-8016-E1F822E44F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EFA47-2E30-42EC-BDBF-97FFCE9DEE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cspdpresentationnorms1110.ppt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youtube.com/watch?v=7ECAVxbfsfc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963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1" descr="C:\Users\Barb\AppData\Local\Microsoft\Windows\Temporary Internet Files\Content.IE5\9X90NMZ0\MCj04325470000[1].png"/>
          <p:cNvPicPr/>
          <p:nvPr/>
        </p:nvPicPr>
        <p:blipFill>
          <a:blip r:embed="rId2"/>
          <a:stretch/>
        </p:blipFill>
        <p:spPr>
          <a:xfrm>
            <a:off x="3206880" y="4159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836640" y="2176560"/>
            <a:ext cx="749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ions &amp; Lear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mbedded skills provoked your thinking for you as well as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Wordle Tag Cloud rota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960" y="336600"/>
            <a:ext cx="7772400" cy="56944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2286000" y="603108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ASL Standards for the 21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entury Learn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e created in Wordle: </a:t>
            </a:r>
            <a:r>
              <a:rPr b="0" lang="en-US" sz="14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www.wordle.net/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5145120" y="5707080"/>
            <a:ext cx="34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c8c3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7ECAVxbfsf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875988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Franklin Gothic Book"/>
              </a:rPr>
              <a:t>Guiding Principle/Mantra</a:t>
            </a:r>
            <a:endParaRPr b="0" lang="en-US" sz="5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31880" y="2144880"/>
            <a:ext cx="768024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NEVE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bout the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TOO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- it’s about </a:t>
            </a:r>
            <a:r>
              <a:rPr b="0" lang="en-US" sz="3400" spc="-1" strike="noStrike">
                <a:solidFill>
                  <a:srgbClr val="a8184b"/>
                </a:solidFill>
                <a:latin typeface="Arial"/>
              </a:rPr>
              <a:t>YOU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urriculum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k the tool to match the curriculum </a:t>
            </a:r>
            <a:r>
              <a:rPr b="0" lang="en-US" sz="3400" spc="-1" strike="noStrike">
                <a:solidFill>
                  <a:srgbClr val="86133e"/>
                </a:solidFill>
                <a:latin typeface="Arial"/>
              </a:rPr>
              <a:t>NO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curriculum to match the too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3200" y="257040"/>
            <a:ext cx="7812000" cy="86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Norms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125000"/>
            <a:ext cx="7313760" cy="55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will we work togeth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nor everyone’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sten to learn and apply to your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lance participation and share air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actice tools, strategie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aphrase, probe, 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spend 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ect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mit to practice and follow-thr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f advo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oid technological dis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1" descr=""/>
          <p:cNvPicPr/>
          <p:nvPr/>
        </p:nvPicPr>
        <p:blipFill>
          <a:blip r:embed="rId1"/>
          <a:stretch/>
        </p:blipFill>
        <p:spPr>
          <a:xfrm>
            <a:off x="-304920" y="268200"/>
            <a:ext cx="4907160" cy="4627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goals1.png"/>
          <p:cNvPicPr/>
          <p:nvPr/>
        </p:nvPicPr>
        <p:blipFill>
          <a:blip r:embed="rId2"/>
          <a:stretch/>
        </p:blipFill>
        <p:spPr>
          <a:xfrm>
            <a:off x="3324240" y="0"/>
            <a:ext cx="5819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80040" y="1676520"/>
            <a:ext cx="3744720" cy="43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What do you hope to learn </a:t>
            </a:r>
            <a:r>
              <a:rPr b="1" lang="en-US" sz="3600" spc="-1" strike="noStrike" u="sng">
                <a:solidFill>
                  <a:srgbClr val="6ea0b0"/>
                </a:solidFill>
                <a:uFillTx/>
                <a:latin typeface="Franklin Gothic Book"/>
              </a:rPr>
              <a:t>today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?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What are </a:t>
            </a:r>
            <a:r>
              <a:rPr b="1" lang="en-US" sz="3600" spc="-1" strike="noStrike" u="sng">
                <a:solidFill>
                  <a:srgbClr val="6ea0b0"/>
                </a:solidFill>
                <a:uFillTx/>
                <a:latin typeface="Franklin Gothic Book"/>
              </a:rPr>
              <a:t>you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 going to do to make sure you get there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Placeholder 8" descr="goals1.png"/>
          <p:cNvPicPr/>
          <p:nvPr/>
        </p:nvPicPr>
        <p:blipFill>
          <a:blip r:embed="rId1"/>
          <a:stretch/>
        </p:blipFill>
        <p:spPr>
          <a:xfrm>
            <a:off x="639720" y="974880"/>
            <a:ext cx="4200480" cy="5445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556240" y="334800"/>
            <a:ext cx="3054240" cy="266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ance Ticket: on the note card provided, write your name and answer to these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1880" y="-106200"/>
            <a:ext cx="7680240" cy="171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anklin Gothic Book"/>
              </a:rPr>
              <a:t>Learning Target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2800" y="1338120"/>
            <a:ext cx="7680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understand how to locate and integrat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4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tandards into their daily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understand how to access and utilize the ECS Digital Resources into their daily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31880" y="3311640"/>
            <a:ext cx="72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caf0a"/>
                </a:solidFill>
                <a:latin typeface="Arial"/>
              </a:rPr>
              <a:t>Criteria for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955800" y="3957480"/>
            <a:ext cx="76802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be able to design a lesson plan that incorporates th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4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tandar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achers will be able to locate and integrate ECS Digital Resources into their instru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genda </a:t>
            </a:r>
            <a:br>
              <a:rPr sz="4600"/>
            </a:b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– </a:t>
            </a:r>
            <a:r>
              <a:rPr b="0" lang="en-US" sz="2200" spc="-1" strike="noStrike">
                <a:solidFill>
                  <a:srgbClr val="ffffff"/>
                </a:solidFill>
                <a:latin typeface="Franklin Gothic Book"/>
              </a:rPr>
              <a:t>the activities that will guide us to the learning target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48800" y="2405160"/>
            <a:ext cx="7680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RAIL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ioning for Tomorrow’s Learn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rning 4 Lif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CDE State Standards/Curriculum Essenti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igning &amp; Planning Instr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overing ECS Digital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554040" y="541440"/>
            <a:ext cx="797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to assess YOUR skill level! 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take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L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 9 Assessmen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your browser to the following URL and I will provide you with an individual student nu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Luc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lease keep a notepad beside you to make notations on items that challenged you, would challenge your exiting 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ders and what kinds of learning experiences might need to be designed in order to build teacher/student capacity to achieve success on this assess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rails-9.org/session/438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222200" y="4915080"/>
            <a:ext cx="6801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33:26Z</dcterms:created>
  <dc:creator>David Russell</dc:creator>
  <dc:description/>
  <dc:language>en-US</dc:language>
  <cp:lastModifiedBy>Eagle Schools</cp:lastModifiedBy>
  <dcterms:modified xsi:type="dcterms:W3CDTF">2010-11-16T16:13:45Z</dcterms:modified>
  <cp:revision>31</cp:revision>
  <dc:subject/>
  <dc:title>Slide 1</dc:title>
</cp:coreProperties>
</file>